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043-8CF2-4080-B20A-67D293B88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U Vit. A from beta-carotene: .6 micrograms / pound need 15000 IU / p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U Vit. D from egrocalciferol: .025 micrograms / pound no more than 1500 IU / p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3E4D-697F-47A1-BF0F-3E80FA790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330 days a year with 18 hours a day   1644.34 lbs / hour table spread produced  31515 tubs /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772-D519-40B9-B2D4-8FD47F21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BA6-D2E6-4CDC-B19C-247B86C5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DE0-9A2B-469F-800A-98DD59D1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348-2253-48B5-B38F-CCF351D9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e line online for 400000 euros, converts to 544680 us doll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D4F-A8F8-4A87-BFB3-FFF301BD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see the “flip flop” emulsificatio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F78-C911-4828-9446-195E6F70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4B0-D29E-4419-B95B-B81EFDDA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260-D5DF-4F6B-A075-D973AFCA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75E-0151-4785-AD92-4D503F86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CF9-80F5-46D3-AA89-A7C635A4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66B-1E65-41D0-B05E-08D5E9AE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62F-5FF6-46EF-AF59-3255294D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AF1-8211-4480-A470-84C3A5A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0DC-8E1D-49BC-9849-DF474DA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E4-F801-4783-92A6-4F59B0EC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345-708D-4A11-9C8E-08D4F33D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8B4-EFC2-4953-B22F-5F2C2236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968-4FBD-44DF-922E-CF4B3A0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218F-15DF-4A39-A0E7-0E0C6C62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althy Table Spread from Alg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580360" y="2362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934160" y="31240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1259640" y="50292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n Each Tub Of Table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.3 grams of algae oil (4.6 grams DH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9.3 grams zero-trans fat oil mixture (interesterfied hardstock, palm, coconut, liquid o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.7252 grams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058 grams natural sea sa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852 grams natural soy lecith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452.52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 beta-carotene (vitamin A and col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ppm diacetyl (butter flav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13 grams mono and diglyce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426 grams sorbic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.2188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 ergocalciferol (vitamin 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Rates of AlphaAlgae Table Spre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 million tubs of butter /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83.68 tons of table spread /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822168 tons of table spread /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bs / b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s / b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/ d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Spread Marketing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 spreads enjoy a market size of around 5.2 billion dollars /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read with 1 % of the market would sell around 52 million dollars /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s straight from the plant are around 35 % of the selling price at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first year, our total table spread sales will then be around 18.2 million doll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food market is increasing very rapi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ncrease will allow for the market share of AlphaAlgae Healthy Spread to increase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Financial Analysi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d on Whole Foods Market Analy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447920"/>
          <a:ext cx="6248520" cy="3733560"/>
        </p:xfrm>
        <a:graphic>
          <a:graphicData uri="http://schemas.openxmlformats.org/drawingml/2006/table">
            <a:tbl>
              <a:tblPr/>
              <a:tblGrid>
                <a:gridCol w="5021280"/>
                <a:gridCol w="1227240"/>
              </a:tblGrid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Growth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 Income (YTD vs last Y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es (5-year Annual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Profit Mar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 Profit Margin (la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Year Net Profit Margin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Financial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bt/Equity 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Investment Retu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Equity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Assets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Capital (5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ybean Oil (SB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781.39 tons SBO Hardfat (Cargi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993.72 tons crude SBO (Cargill) at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$867.40/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ining Crude S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egumming(removal of phospholipi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Mix with water and H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P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Forms a gum, and then centrifuge ou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Removal of free fatty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Use NaOH and NaC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to form soluble in water salts, removed by centrifug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Rinse with hot water to remove soapstock, centrifuge ag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Soapstock – add H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S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make feedstock for chicke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89898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Bleaching – Filtering with both a Fuller’s Earth filter and activated carbon fil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89898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eodor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76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Steam distillation under high vacuum and 250-260°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76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Cooled under vacuu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xing hardfat with refined S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ing 99% pure Sodium methoxide at 0.4% wt under vacuum at 100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irring 500rpm for 2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dd DI and citric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ash with DI to remove so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ied at 110°C for 30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Project 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 Ba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ck Flow Dia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Flow Dia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terial and Energy Bala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notated Equipment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nomic Evaluation Factored from Equipment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  Conceptual Control Sc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jor Equipment Lay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and 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ains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icable Stand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mmunication 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 Sources and Re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Sterilization will be conducted at 121°C for 1 h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and tube heat exchangers will be used for continuous sterilization with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um components will be mixed and steri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mentor Mass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s: Batch Fermentor with 92,400 Liters of fermentation br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occulum of 7,000 Liters of seed batch with c cohnii concentration of 20 g dwcells/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3 hours required per ba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erated to 20% Dissolved Oxygen Sat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et Material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48320" y="1600200"/>
          <a:ext cx="4038480" cy="4578480"/>
        </p:xfrm>
        <a:graphic>
          <a:graphicData uri="http://schemas.openxmlformats.org/drawingml/2006/table">
            <a:tbl>
              <a:tblPr/>
              <a:tblGrid>
                <a:gridCol w="1481040"/>
                <a:gridCol w="1279440"/>
                <a:gridCol w="1278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n 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cose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Salt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Silicon Anti-fo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can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gae Biom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mentor Energy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rmentation is exothermic and cooling water is required to keep the broth at 27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rmentor is constructed out of stainless steel with an area of 149.1 sq me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3962160" cy="1541520"/>
        </p:xfrm>
        <a:graphic>
          <a:graphicData uri="http://schemas.openxmlformats.org/drawingml/2006/table">
            <a:tbl>
              <a:tblPr/>
              <a:tblGrid>
                <a:gridCol w="2428920"/>
                <a:gridCol w="153324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bolic Heat Evolution (k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219,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ing Water Required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08,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e Oil to Table Sp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ugh the table spread market is shrinking, the health food market is increasing at an incredibl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phaAlgae Healthy Table Spread will have zero trans-fats, zero animal ingredients (vegan), and no dairy components (kosher), allowing for it to attract a very large group of consu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ill be assumed that AlphaAlgae will take 1 % of the table spread market the first year, and will increase every year afterwar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Spread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the oil phase and the water phase must be prepa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il phase consists of refined, zero trans fat oil mixture, the DHA-rich algae oil, and oil-soluble flavors, golden color, and lecith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phase consists of purified water and sea salt, used for both flavor and as a preserva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phases are mixed together in an emulsion tank with a temperature around 1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°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wo-tank system is called a “flip flop” system.  When one tank is emulsifying, the other tank is undergoing prepar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emulsification then undergoes pasteurization to both kill microbes and to ensure a consistent temperature throughout the sp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followed by cooling and crystallization, creating the final spread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pread is then stored, ready for trans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a Table Spread Production 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Margarine_Line1.jpg"/>
          <p:cNvPicPr/>
          <p:nvPr/>
        </p:nvPicPr>
        <p:blipFill>
          <a:blip r:embed="rId1"/>
          <a:stretch/>
        </p:blipFill>
        <p:spPr>
          <a:xfrm>
            <a:off x="1143000" y="152388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Process Flow Diagram of Table Spread Product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" y="1822320"/>
            <a:ext cx="82296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27:31Z</dcterms:created>
  <dc:creator>student2</dc:creator>
  <dc:description/>
  <dc:language>en-US</dc:language>
  <cp:lastModifiedBy>student 12</cp:lastModifiedBy>
  <dcterms:modified xsi:type="dcterms:W3CDTF">2010-02-15T18:36:20Z</dcterms:modified>
  <cp:revision>6</cp:revision>
  <dc:subject/>
  <dc:title>Soybean Oil (SBO)</dc:title>
</cp:coreProperties>
</file>